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wmf" ContentType="image/x-wmf"/>
  <Override PartName="/ppt/media/image3.jpeg" ContentType="image/jpeg"/>
  <Override PartName="/ppt/media/image17.png" ContentType="image/png"/>
  <Override PartName="/ppt/media/image14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63EA-61F8-40CA-8280-B40D475F93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FF80-BB54-48FF-9EFD-0616895C8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51D1-5E4F-4A27-8A1A-68DA53076784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6CF9-863A-4DC5-BCB2-B9850968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A4AB-86D9-4E6B-A2A2-8CC1110A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F15F-526E-4143-AB5E-D324C44D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E9F1-CCE4-41DC-BDAA-DA2648EC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FC63-6F23-49BC-BF82-A2108446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D13A-A1F7-4A48-97ED-E8F305C3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E889-3063-4BB4-BA78-D84EFE82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6CE0-6D8C-4416-8200-026C17CD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A7B4-072C-4D0D-9BEE-1A9F2E85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719A-9BB8-4B49-A284-4B5EF0A1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6BEE-65D9-423D-BC35-E8A42112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903D-CCF9-4D96-AEE9-5538C359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DD97-6617-4A43-B1E8-D5D2F756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7B84-1247-47AF-9BF8-4FF4ADCD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B0D9-7C57-47B4-911D-9FA49C0A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767D-8141-4E1B-BD59-5891D041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9ABF-2FB1-4B4E-8215-F6C7790B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5F3D5-7EFE-46C8-B7FC-524E9426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46DD0-5C28-422E-AEAC-CE276DC8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DBE6C-6F9B-4CEA-BAFE-68DB3407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3B1EE-0B65-476C-A0D2-22AFB703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1C8C6-9E53-45CC-94A9-59D07D3B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4367-E07D-463B-9B8F-7B017EC8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C18CD-A7A1-408E-B158-958E1FE8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F95BE-C3F2-43D3-9683-F1FD5F49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B909C-57DD-4D88-9A0F-F1B3CEC5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99510-B806-47E7-9588-6A2D01DD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4E73E-BD84-4C0F-8EEA-4975CB75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3C126-C256-4009-A1A0-5B9B42EC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D3577-ADC9-4F00-A36F-33E9539E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C0E2A-0A4F-4B48-BC28-E9543115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164DB-50D9-48DF-A7F5-7A3E4C80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B82E5-ADB0-4183-A843-894BA6B9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498F-706D-44C7-A163-30EF3ADA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2FD94-7470-4304-A54C-DEE5B84D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5BB6B-D92E-4208-A2E0-AEE1231D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99921-E9B4-4F42-8E52-47E18CF2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290C7-21C2-4AC9-BFD5-9429B541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C5B7D-E3A2-4363-A1F9-E0CA065A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EC54B-E329-4CFA-B7C5-243AD996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EC9AC-9363-4579-A539-DB24B2A0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B5F8F-DF05-4A23-A3BC-30C36146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919B0-2343-4A9B-B1C7-DC904AD2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E1A8E-0D80-4F29-BB93-B19C48E1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2F6C-AD45-492A-ABCD-002D501D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1476B-F2FF-4A5E-AED4-C20A934E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08550-B27F-47B9-B85E-9625AC82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87E71-4246-4663-B3CD-EFACE880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A1389-460F-43F3-A9E1-D55E6461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CFA21-E912-436F-B7B9-60553405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81C20-8870-49EB-8EAF-CEE14240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95416-883A-4E50-8E50-6699916B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37C2A-8A8C-446D-A41B-A5DB3D40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D2722-3427-4D50-8C99-19F74B7C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20BB9-1178-47B7-8A76-4F52D47F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FB15-702D-49A4-9810-11B1037B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AD896-E9CB-4266-B202-F8074BDA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C3F3D-E3F7-4FBE-BE04-0073C566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BEBD5-D2DA-42B4-B4F3-24A3D907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4E350-9631-4D23-BAA2-DCFE191F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F00F2-1148-4C11-B1D6-A2BF6EFE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D7641-2D23-4C4E-BE8A-133A2D58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ABF07-5FD7-4002-A21F-53F8D72B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3EEFB-B808-4167-90BE-D5AE23B2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62234-7237-4844-8C33-8B8F76AD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DAA90-E2CA-4ED6-A95A-0A419AA5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57AD-2C9F-4D4C-A0D2-B0D2CCAE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29CE4-08DB-471F-AA53-2A27DBCF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224D7-311E-42C6-A0AC-C54B471F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A2643-B697-4B0C-B913-4A6FC65F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A569-1132-4CD0-AAD4-A2714BF5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4AD-5F94-4FED-91E8-B5F5ACC5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B285-68A2-439C-9F5E-ADCCDAC820D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6807-F754-44C2-9F18-506D5BF7D1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C6CC-E360-47A3-9DB3-30DD8DA3AC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C53A-674D-431E-8E05-B57C8C8B21D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A611-9E86-439A-90F0-E696E557F60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AB81-3E4D-4887-BB74-8D24041BD89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5.jpeg"/><Relationship Id="rId5" Type="http://schemas.openxmlformats.org/officeDocument/2006/relationships/image" Target="../media/image4.jpeg"/><Relationship Id="rId6" Type="http://schemas.openxmlformats.org/officeDocument/2006/relationships/image" Target="../media/image7.png"/><Relationship Id="rId7" Type="http://schemas.openxmlformats.org/officeDocument/2006/relationships/image" Target="../media/image12.jpeg"/><Relationship Id="rId8" Type="http://schemas.openxmlformats.org/officeDocument/2006/relationships/image" Target="../media/image11.jpeg"/><Relationship Id="rId9" Type="http://schemas.openxmlformats.org/officeDocument/2006/relationships/image" Target="../media/image6.jpeg"/><Relationship Id="rId10" Type="http://schemas.openxmlformats.org/officeDocument/2006/relationships/image" Target="../media/image14.png"/><Relationship Id="rId11" Type="http://schemas.openxmlformats.org/officeDocument/2006/relationships/image" Target="../media/image20.jpeg"/><Relationship Id="rId12" Type="http://schemas.openxmlformats.org/officeDocument/2006/relationships/image" Target="../media/image16.jpeg"/><Relationship Id="rId13" Type="http://schemas.openxmlformats.org/officeDocument/2006/relationships/image" Target="../media/image21.jpeg"/><Relationship Id="rId14" Type="http://schemas.openxmlformats.org/officeDocument/2006/relationships/image" Target="../media/image13.jpe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uralstress.ca/images/stress_graph.gif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981080" y="54864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333300"/>
                </a:solidFill>
                <a:latin typeface="Calibri"/>
              </a:rPr>
              <a:t>Nadine Tibbs-Stallwort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7162920" y="533520"/>
          <a:ext cx="26478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33520"/>
                    <a:ext cx="26478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6" name="Group 9"/>
          <p:cNvGrpSpPr/>
          <p:nvPr/>
        </p:nvGrpSpPr>
        <p:grpSpPr>
          <a:xfrm>
            <a:off x="1447920" y="1066680"/>
            <a:ext cx="6400800" cy="5105520"/>
            <a:chOff x="1447920" y="1066680"/>
            <a:chExt cx="6400800" cy="5105520"/>
          </a:xfrm>
        </p:grpSpPr>
        <p:sp>
          <p:nvSpPr>
            <p:cNvPr id="257" name="Rectangle 5"/>
            <p:cNvSpPr/>
            <p:nvPr/>
          </p:nvSpPr>
          <p:spPr>
            <a:xfrm>
              <a:off x="1676520" y="2438280"/>
              <a:ext cx="3124080" cy="3733920"/>
            </a:xfrm>
            <a:prstGeom prst="rect">
              <a:avLst/>
            </a:prstGeom>
            <a:solidFill>
              <a:srgbClr val="a6c85e"/>
            </a:solidFill>
            <a:ln w="25560">
              <a:solidFill>
                <a:srgbClr val="7992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8" name="Rectangle 7"/>
            <p:cNvSpPr/>
            <p:nvPr/>
          </p:nvSpPr>
          <p:spPr>
            <a:xfrm>
              <a:off x="4343400" y="1066680"/>
              <a:ext cx="3505320" cy="3733920"/>
            </a:xfrm>
            <a:prstGeom prst="rect">
              <a:avLst/>
            </a:prstGeom>
            <a:gradFill rotWithShape="0">
              <a:gsLst>
                <a:gs pos="0">
                  <a:srgbClr val="e4f9ff"/>
                </a:gs>
                <a:gs pos="100000">
                  <a:srgbClr val="9eeaff"/>
                </a:gs>
              </a:gsLst>
              <a:lin ang="54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1447920" y="2253960"/>
              <a:ext cx="6096240" cy="703440"/>
            </a:xfrm>
            <a:prstGeom prst="rect">
              <a:avLst/>
            </a:prstGeom>
            <a:gradFill rotWithShape="0">
              <a:gsLst>
                <a:gs pos="0">
                  <a:srgbClr val="e1ff9b"/>
                </a:gs>
                <a:gs pos="100000">
                  <a:srgbClr val="acd84e"/>
                </a:gs>
              </a:gsLst>
              <a:lin ang="5400000"/>
            </a:gradFill>
            <a:ln w="9360">
              <a:solidFill>
                <a:srgbClr val="a3c659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Rockwell"/>
                </a:rPr>
                <a:t>Stress Management</a:t>
              </a:r>
              <a:endParaRPr b="0" lang="en-US" sz="4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Stresses You Ou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6553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Health/Medical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Lack of Fre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b3d7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amily &amp; frie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Job related stres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b3d7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work l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b3d7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overcrow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b3d7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lack of sup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b3d7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lack of on the job trai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6" descr="stress.jpg"/>
          <p:cNvPicPr/>
          <p:nvPr/>
        </p:nvPicPr>
        <p:blipFill>
          <a:blip r:embed="rId1"/>
          <a:stretch/>
        </p:blipFill>
        <p:spPr>
          <a:xfrm>
            <a:off x="5181480" y="1371600"/>
            <a:ext cx="32767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StressedOut-1.JPG"/>
          <p:cNvPicPr/>
          <p:nvPr/>
        </p:nvPicPr>
        <p:blipFill>
          <a:blip r:embed="rId1"/>
          <a:stretch/>
        </p:blipFill>
        <p:spPr>
          <a:xfrm>
            <a:off x="1828800" y="152280"/>
            <a:ext cx="518148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hysica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ress Sig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09120" y="2057040"/>
            <a:ext cx="37702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Increased heart rate/ </a:t>
            </a: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Increased blood pres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Muscles tighte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Cold clammy h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Fatig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Sleepless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Longer recovery from inju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419360" y="1980720"/>
            <a:ext cx="39812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Stomach or bowel ups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Headac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Backac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Change in eating habits:  lost of appetite/overe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Restlessness/irrit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Increased ill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6" descr="mind.jpg"/>
          <p:cNvPicPr/>
          <p:nvPr/>
        </p:nvPicPr>
        <p:blipFill>
          <a:blip r:embed="rId1"/>
          <a:stretch/>
        </p:blipFill>
        <p:spPr>
          <a:xfrm>
            <a:off x="4038480" y="1066680"/>
            <a:ext cx="11588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alibri"/>
              </a:rPr>
              <a:t>Mental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Stress Sig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98108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595959"/>
                </a:solidFill>
                <a:latin typeface="Calibri"/>
              </a:rPr>
              <a:t>Anxie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595959"/>
                </a:solidFill>
                <a:latin typeface="Calibri"/>
              </a:rPr>
              <a:t>Forgetful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595959"/>
                </a:solidFill>
                <a:latin typeface="Calibri"/>
              </a:rPr>
              <a:t>Depre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595959"/>
                </a:solidFill>
                <a:latin typeface="Calibri"/>
              </a:rPr>
              <a:t>Apathy/ lack of  inter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595959"/>
                </a:solidFill>
                <a:latin typeface="Calibri"/>
              </a:rPr>
              <a:t>Confu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724280" y="19807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Lowered self-este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Increased a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Excessive f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Wor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Decreased self-conf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4" descr="mind.jpg"/>
          <p:cNvPicPr/>
          <p:nvPr/>
        </p:nvPicPr>
        <p:blipFill>
          <a:blip r:embed="rId1"/>
          <a:stretch/>
        </p:blipFill>
        <p:spPr>
          <a:xfrm>
            <a:off x="3809880" y="1143000"/>
            <a:ext cx="11588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alibri"/>
              </a:rPr>
              <a:t>Behavioural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Signs of St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980720"/>
            <a:ext cx="441972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Host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Irrit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Under/over e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Decreased ability to concent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Memory problems /forgetful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Frequent use of cigarettes or alcoh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5028840" y="20574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Clums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Withdrawal from usual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Poor performanc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Absenteeism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High accident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Making more mista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4" descr="mind.jpg"/>
          <p:cNvPicPr/>
          <p:nvPr/>
        </p:nvPicPr>
        <p:blipFill>
          <a:blip r:embed="rId1"/>
          <a:stretch/>
        </p:blipFill>
        <p:spPr>
          <a:xfrm>
            <a:off x="4038480" y="1219320"/>
            <a:ext cx="115884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649TN.png"/>
          <p:cNvPicPr/>
          <p:nvPr/>
        </p:nvPicPr>
        <p:blipFill>
          <a:blip r:embed="rId1"/>
          <a:stretch/>
        </p:blipFill>
        <p:spPr>
          <a:xfrm>
            <a:off x="1676520" y="1905120"/>
            <a:ext cx="6648480" cy="35496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1143000"/>
            <a:ext cx="5867280" cy="13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St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act on health of an individ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Back p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Heada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Stomacha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Ulc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High Blood Press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Heart Attack or Stro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3" descr="90f1c6f0d3d49eb6.jpg"/>
          <p:cNvPicPr/>
          <p:nvPr/>
        </p:nvPicPr>
        <p:blipFill>
          <a:blip r:embed="rId1"/>
          <a:stretch/>
        </p:blipFill>
        <p:spPr>
          <a:xfrm>
            <a:off x="380880" y="685800"/>
            <a:ext cx="4116600" cy="541008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29000" y="4723920"/>
            <a:ext cx="54864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Manage St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ntal Techniq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5720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Tim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Organ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Problem solving attitu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Think Pos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6" descr="d37428cd5a7aaff4.jpg"/>
          <p:cNvPicPr/>
          <p:nvPr/>
        </p:nvPicPr>
        <p:blipFill>
          <a:blip r:embed="rId1"/>
          <a:stretch/>
        </p:blipFill>
        <p:spPr>
          <a:xfrm>
            <a:off x="5562720" y="1905120"/>
            <a:ext cx="3124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Your Inner Pe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505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Hobb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P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Va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Next Generation Funk.mp3" descr=""/>
          <p:cNvPicPr/>
          <p:nvPr/>
        </p:nvPicPr>
        <p:blipFill>
          <a:blip r:embed="rId1"/>
          <a:stretch/>
        </p:blipFill>
        <p:spPr>
          <a:xfrm>
            <a:off x="8610480" y="6477120"/>
            <a:ext cx="212760" cy="2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7798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What is st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Symp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Impac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Managing St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5" descr="stressed_man"/>
          <p:cNvPicPr/>
          <p:nvPr/>
        </p:nvPicPr>
        <p:blipFill>
          <a:blip r:embed="rId1"/>
          <a:stretch/>
        </p:blipFill>
        <p:spPr>
          <a:xfrm>
            <a:off x="4800600" y="1676520"/>
            <a:ext cx="2843280" cy="3824280"/>
          </a:xfrm>
          <a:prstGeom prst="rect">
            <a:avLst/>
          </a:prstGeom>
          <a:ln w="0">
            <a:noFill/>
          </a:ln>
        </p:spPr>
      </p:pic>
      <p:sp>
        <p:nvSpPr>
          <p:cNvPr id="263" name="Action Button: Custom 4"/>
          <p:cNvSpPr/>
          <p:nvPr/>
        </p:nvSpPr>
        <p:spPr>
          <a:xfrm flipV="1" rot="10800000">
            <a:off x="7772400" y="57139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hysical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Body Scan – “relax-let go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Deep breat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Medi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Laugh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5181480" y="2666880"/>
          <a:ext cx="2914920" cy="23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666880"/>
                    <a:ext cx="291492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333300"/>
                </a:solidFill>
                <a:latin typeface="Calibri"/>
              </a:rPr>
              <a:t>" Success belongs to those individual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333300"/>
                </a:solidFill>
                <a:latin typeface="Calibri"/>
              </a:rPr>
              <a:t>who can look at the complex challeng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333300"/>
                </a:solidFill>
                <a:latin typeface="Calibri"/>
              </a:rPr>
              <a:t>offered by the Worl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333300"/>
                </a:solidFill>
                <a:latin typeface="Calibri"/>
              </a:rPr>
              <a:t>as </a:t>
            </a:r>
            <a:r>
              <a:rPr b="1" i="1" lang="en-GB" sz="3600" spc="-1" strike="noStrike">
                <a:solidFill>
                  <a:srgbClr val="333300"/>
                </a:solidFill>
                <a:latin typeface="Calibri"/>
              </a:rPr>
              <a:t>Inspiration</a:t>
            </a:r>
            <a:r>
              <a:rPr b="1" lang="en-GB" sz="3600" spc="-1" strike="noStrike">
                <a:solidFill>
                  <a:srgbClr val="333300"/>
                </a:solidFill>
                <a:latin typeface="Calibri"/>
              </a:rPr>
              <a:t>."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6" descr="j0302953"/>
          <p:cNvPicPr/>
          <p:nvPr/>
        </p:nvPicPr>
        <p:blipFill>
          <a:blip r:embed="rId1"/>
          <a:stretch/>
        </p:blipFill>
        <p:spPr>
          <a:xfrm>
            <a:off x="6858000" y="3733920"/>
            <a:ext cx="18493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Number One.mp3" descr=""/>
          <p:cNvPicPr/>
          <p:nvPr/>
        </p:nvPicPr>
        <p:blipFill>
          <a:blip r:embed="rId1"/>
          <a:stretch/>
        </p:blipFill>
        <p:spPr>
          <a:xfrm rot="10800000">
            <a:off x="4800240" y="3657600"/>
            <a:ext cx="1143000" cy="868320"/>
          </a:xfrm>
          <a:prstGeom prst="rect">
            <a:avLst/>
          </a:prstGeom>
          <a:ln w="0">
            <a:noFill/>
          </a:ln>
        </p:spPr>
      </p:pic>
      <p:pic>
        <p:nvPicPr>
          <p:cNvPr id="334" name="Content Placeholder 3" descr="ff53557c4bb1b002.jpg"/>
          <p:cNvPicPr/>
          <p:nvPr/>
        </p:nvPicPr>
        <p:blipFill>
          <a:blip r:embed="rId2"/>
          <a:srcRect l="-17701" t="0" r="-17701" b="0"/>
          <a:stretch/>
        </p:blipFill>
        <p:spPr>
          <a:xfrm>
            <a:off x="6858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373b2bf4f9d8d8da.jpg"/>
          <p:cNvPicPr/>
          <p:nvPr/>
        </p:nvPicPr>
        <p:blipFill>
          <a:blip r:embed="rId3"/>
          <a:stretch/>
        </p:blipFill>
        <p:spPr>
          <a:xfrm>
            <a:off x="7556400" y="2610000"/>
            <a:ext cx="1016280" cy="15872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90f1c6f0d3d49eb6.jpg"/>
          <p:cNvPicPr/>
          <p:nvPr/>
        </p:nvPicPr>
        <p:blipFill>
          <a:blip r:embed="rId4"/>
          <a:stretch/>
        </p:blipFill>
        <p:spPr>
          <a:xfrm>
            <a:off x="5327640" y="1282680"/>
            <a:ext cx="1333440" cy="17780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ed4119622053feb2.jpg"/>
          <p:cNvPicPr/>
          <p:nvPr/>
        </p:nvPicPr>
        <p:blipFill>
          <a:blip r:embed="rId5"/>
          <a:stretch/>
        </p:blipFill>
        <p:spPr>
          <a:xfrm>
            <a:off x="5524560" y="4083120"/>
            <a:ext cx="1650960" cy="12319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stress.png"/>
          <p:cNvPicPr/>
          <p:nvPr/>
        </p:nvPicPr>
        <p:blipFill>
          <a:blip r:embed="rId6"/>
          <a:stretch/>
        </p:blipFill>
        <p:spPr>
          <a:xfrm>
            <a:off x="2286000" y="0"/>
            <a:ext cx="2585880" cy="2438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StressedOut-1.JPG"/>
          <p:cNvPicPr/>
          <p:nvPr/>
        </p:nvPicPr>
        <p:blipFill>
          <a:blip r:embed="rId7"/>
          <a:stretch/>
        </p:blipFill>
        <p:spPr>
          <a:xfrm>
            <a:off x="6934320" y="152280"/>
            <a:ext cx="1920600" cy="24386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stress.jpg"/>
          <p:cNvPicPr/>
          <p:nvPr/>
        </p:nvPicPr>
        <p:blipFill>
          <a:blip r:embed="rId8"/>
          <a:stretch/>
        </p:blipFill>
        <p:spPr>
          <a:xfrm>
            <a:off x="0" y="3365640"/>
            <a:ext cx="2448000" cy="3492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8f7b7418f5d6e920.jpg"/>
          <p:cNvPicPr/>
          <p:nvPr/>
        </p:nvPicPr>
        <p:blipFill>
          <a:blip r:embed="rId9"/>
          <a:stretch/>
        </p:blipFill>
        <p:spPr>
          <a:xfrm>
            <a:off x="1981080" y="4876920"/>
            <a:ext cx="1778040" cy="14475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649TN.png"/>
          <p:cNvPicPr/>
          <p:nvPr/>
        </p:nvPicPr>
        <p:blipFill>
          <a:blip r:embed="rId10"/>
          <a:stretch/>
        </p:blipFill>
        <p:spPr>
          <a:xfrm>
            <a:off x="533520" y="2193840"/>
            <a:ext cx="1955520" cy="10447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ed6fbb60f5f4c3ae-1.jpg"/>
          <p:cNvPicPr/>
          <p:nvPr/>
        </p:nvPicPr>
        <p:blipFill>
          <a:blip r:embed="rId11"/>
          <a:stretch/>
        </p:blipFill>
        <p:spPr>
          <a:xfrm>
            <a:off x="6896160" y="5232240"/>
            <a:ext cx="1650960" cy="965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d37428cd5a7aaff4.jpg"/>
          <p:cNvPicPr/>
          <p:nvPr/>
        </p:nvPicPr>
        <p:blipFill>
          <a:blip r:embed="rId12"/>
          <a:stretch/>
        </p:blipFill>
        <p:spPr>
          <a:xfrm>
            <a:off x="380880" y="228600"/>
            <a:ext cx="1549440" cy="1587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5fad5f5937c9f458.jpg"/>
          <p:cNvPicPr/>
          <p:nvPr/>
        </p:nvPicPr>
        <p:blipFill>
          <a:blip r:embed="rId13"/>
          <a:stretch/>
        </p:blipFill>
        <p:spPr>
          <a:xfrm>
            <a:off x="7493040" y="4267080"/>
            <a:ext cx="1650960" cy="12067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mind.jpg"/>
          <p:cNvPicPr/>
          <p:nvPr/>
        </p:nvPicPr>
        <p:blipFill>
          <a:blip r:embed="rId14"/>
          <a:stretch/>
        </p:blipFill>
        <p:spPr>
          <a:xfrm>
            <a:off x="4724280" y="5530680"/>
            <a:ext cx="169884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0455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828800" y="3200400"/>
            <a:ext cx="60199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Stress is part of our everyday lif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Living in a fast-paced, technological society with innumerable demands upon our time, the majority of people can state:  “I am stressed out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5" descr="ed4119622053feb2.jpg"/>
          <p:cNvPicPr/>
          <p:nvPr/>
        </p:nvPicPr>
        <p:blipFill>
          <a:blip r:embed="rId1"/>
          <a:stretch/>
        </p:blipFill>
        <p:spPr>
          <a:xfrm>
            <a:off x="2743200" y="380880"/>
            <a:ext cx="3848040" cy="28720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St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Rectangle 3" descr=""/>
          <p:cNvPicPr/>
          <p:nvPr/>
        </p:nvPicPr>
        <p:blipFill>
          <a:blip r:embed="rId1"/>
          <a:stretch/>
        </p:blipFill>
        <p:spPr>
          <a:xfrm>
            <a:off x="530280" y="2206800"/>
            <a:ext cx="8315280" cy="3968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8f7b7418f5d6e920.jpg"/>
          <p:cNvPicPr/>
          <p:nvPr/>
        </p:nvPicPr>
        <p:blipFill>
          <a:blip r:embed="rId2"/>
          <a:stretch/>
        </p:blipFill>
        <p:spPr>
          <a:xfrm>
            <a:off x="6400800" y="380880"/>
            <a:ext cx="2340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Stres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600200" y="2666880"/>
            <a:ext cx="632448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day fact of li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stress can be g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ssive stress can be harm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3962520" y="4800600"/>
            <a:ext cx="2514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73" name="Picture 5" descr="stress.png"/>
          <p:cNvPicPr/>
          <p:nvPr/>
        </p:nvPicPr>
        <p:blipFill>
          <a:blip r:embed="rId1"/>
          <a:stretch/>
        </p:blipFill>
        <p:spPr>
          <a:xfrm>
            <a:off x="5638680" y="152280"/>
            <a:ext cx="33339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ical Relationship Betwe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formance and St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7911720" y="5562720"/>
            <a:ext cx="69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914400" y="5334120"/>
            <a:ext cx="17524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(poor)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914400" y="1828800"/>
            <a:ext cx="17524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(excellent)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278" name="Group 18"/>
          <p:cNvGrpSpPr/>
          <p:nvPr/>
        </p:nvGrpSpPr>
        <p:grpSpPr>
          <a:xfrm>
            <a:off x="1905120" y="2057400"/>
            <a:ext cx="5943240" cy="3587400"/>
            <a:chOff x="1905120" y="2057400"/>
            <a:chExt cx="5943240" cy="3587400"/>
          </a:xfrm>
        </p:grpSpPr>
        <p:sp>
          <p:nvSpPr>
            <p:cNvPr id="279" name="Rectangle 4"/>
            <p:cNvSpPr/>
            <p:nvPr/>
          </p:nvSpPr>
          <p:spPr>
            <a:xfrm>
              <a:off x="3128040" y="2057400"/>
              <a:ext cx="1491480" cy="28238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0" name="Rectangle 5"/>
            <p:cNvSpPr/>
            <p:nvPr/>
          </p:nvSpPr>
          <p:spPr>
            <a:xfrm>
              <a:off x="4629960" y="2057400"/>
              <a:ext cx="1491480" cy="2823840"/>
            </a:xfrm>
            <a:prstGeom prst="rect">
              <a:avLst/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1" name="Rectangle 6"/>
            <p:cNvSpPr/>
            <p:nvPr/>
          </p:nvSpPr>
          <p:spPr>
            <a:xfrm>
              <a:off x="6136920" y="2057400"/>
              <a:ext cx="1491480" cy="28238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2" name="Line 7"/>
            <p:cNvSpPr/>
            <p:nvPr/>
          </p:nvSpPr>
          <p:spPr>
            <a:xfrm>
              <a:off x="2689920" y="2057400"/>
              <a:ext cx="0" cy="3049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3" name="Line 8"/>
            <p:cNvSpPr/>
            <p:nvPr/>
          </p:nvSpPr>
          <p:spPr>
            <a:xfrm flipH="1">
              <a:off x="3127680" y="5220360"/>
              <a:ext cx="4568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4" name="Rectangle 9"/>
            <p:cNvSpPr/>
            <p:nvPr/>
          </p:nvSpPr>
          <p:spPr>
            <a:xfrm>
              <a:off x="3002760" y="4881240"/>
              <a:ext cx="623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Rectangle 11"/>
            <p:cNvSpPr/>
            <p:nvPr/>
          </p:nvSpPr>
          <p:spPr>
            <a:xfrm rot="16200000">
              <a:off x="1661040" y="3148200"/>
              <a:ext cx="129888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Level of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Performance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Arc 15"/>
            <p:cNvSpPr/>
            <p:nvPr/>
          </p:nvSpPr>
          <p:spPr>
            <a:xfrm>
              <a:off x="3445920" y="2621880"/>
              <a:ext cx="3920400" cy="22590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7" name="Rectangle 16"/>
            <p:cNvSpPr/>
            <p:nvPr/>
          </p:nvSpPr>
          <p:spPr>
            <a:xfrm>
              <a:off x="2912040" y="2057400"/>
              <a:ext cx="189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00"/>
                  </a:solidFill>
                  <a:latin typeface="Book Antiqua"/>
                </a:rPr>
                <a:t>Too Little Stress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8" name="Rectangle 17"/>
            <p:cNvSpPr/>
            <p:nvPr/>
          </p:nvSpPr>
          <p:spPr>
            <a:xfrm>
              <a:off x="4419720" y="2057400"/>
              <a:ext cx="1923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Book Antiqua"/>
                </a:rPr>
                <a:t>Optimum Stress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9" name="Rectangle 18"/>
            <p:cNvSpPr/>
            <p:nvPr/>
          </p:nvSpPr>
          <p:spPr>
            <a:xfrm>
              <a:off x="5942880" y="2057400"/>
              <a:ext cx="1905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00"/>
                  </a:solidFill>
                  <a:latin typeface="Book Antiqua"/>
                </a:rPr>
                <a:t>Excessive Stress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0" name="Line 19"/>
            <p:cNvSpPr/>
            <p:nvPr/>
          </p:nvSpPr>
          <p:spPr>
            <a:xfrm>
              <a:off x="5318280" y="2283120"/>
              <a:ext cx="0" cy="282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1" name="Text Box 20"/>
            <p:cNvSpPr/>
            <p:nvPr/>
          </p:nvSpPr>
          <p:spPr>
            <a:xfrm>
              <a:off x="5130360" y="5276520"/>
              <a:ext cx="93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Book Antiqua"/>
                </a:rPr>
                <a:t>Stress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stress_graph_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8320" y="457200"/>
            <a:ext cx="7936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Positi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tress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285640" y="3352680"/>
            <a:ext cx="47242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ables concent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s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izes you into mo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3" descr="ff53557c4bb1b002.jpg"/>
          <p:cNvPicPr/>
          <p:nvPr/>
        </p:nvPicPr>
        <p:blipFill>
          <a:blip r:embed="rId1"/>
          <a:stretch/>
        </p:blipFill>
        <p:spPr>
          <a:xfrm>
            <a:off x="3048120" y="1295280"/>
            <a:ext cx="2455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alibri"/>
              </a:rPr>
              <a:t>Negativ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Stress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61760" y="350532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s of mot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s effectiv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, mental, and behavioural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3" descr="373b2bf4f9d8d8da.jpg"/>
          <p:cNvPicPr/>
          <p:nvPr/>
        </p:nvPicPr>
        <p:blipFill>
          <a:blip r:embed="rId1"/>
          <a:stretch/>
        </p:blipFill>
        <p:spPr>
          <a:xfrm>
            <a:off x="4216320" y="1187280"/>
            <a:ext cx="142236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16:03:29Z</dcterms:created>
  <dc:creator>Satyajeet Singh</dc:creator>
  <dc:description/>
  <dc:language>en-US</dc:language>
  <cp:lastModifiedBy>College of Education</cp:lastModifiedBy>
  <cp:lastPrinted>2007-02-10T18:32:45Z</cp:lastPrinted>
  <dcterms:modified xsi:type="dcterms:W3CDTF">2009-07-25T19:33:53Z</dcterms:modified>
  <cp:revision>50</cp:revision>
  <dc:subject/>
  <dc:title>Stress Management</dc:title>
</cp:coreProperties>
</file>